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937-44DE-4505-B109-6C0405CB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5A5-741A-424C-92F6-96C4F419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24E-5B21-48BB-AE37-663627DD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F64-7FD6-4431-885A-A764628A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DE9-FC39-4273-AF47-3ACC3EF5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665-3397-4255-92F6-2644B088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757-905E-4CDB-8618-BD5BCE55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969-7BA7-4A5D-9998-0AB16470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293-4ED6-4E4E-9A9E-8A6F7C0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772-F92B-475C-8DEA-E4045539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D03-8E03-4466-A15A-23782B4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03B-B149-4258-8AC6-CC64BB49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E2FB-8FE7-4D20-9B67-9B8A7BD6E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5181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9:06:53Z</dcterms:created>
  <dc:creator>St. Jude School</dc:creator>
  <dc:description/>
  <dc:language>en-US</dc:language>
  <cp:lastModifiedBy>St. Jude School</cp:lastModifiedBy>
  <dcterms:modified xsi:type="dcterms:W3CDTF">2010-01-11T19:07:37Z</dcterms:modified>
  <cp:revision>1</cp:revision>
  <dc:subject/>
  <dc:title>Slide 1</dc:title>
</cp:coreProperties>
</file>